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11198"/>
        <c:axId val="2156993"/>
      </c:barChart>
      <c:catAx>
        <c:axId val="43911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6993"/>
        <c:crosses val="autoZero"/>
        <c:auto val="1"/>
        <c:lblAlgn val="ctr"/>
        <c:lblOffset val="100"/>
        <c:noMultiLvlLbl val="0"/>
      </c:catAx>
      <c:valAx>
        <c:axId val="2156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11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074-DE8C-408A-A301-12A77B1C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E06-04CF-419E-B925-4B6EB634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444-E0AD-4A75-AB9D-A6D9F832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23D-50E1-437B-A299-9478BB13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361-2034-4357-885C-1FE3B5F8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07C-E01E-470D-B62E-9EB93BD5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D7B-E2C7-4160-8D3C-D37075EC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2C3-CEDB-4C84-AD4F-611E29AD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5CA-BA68-4FCF-8743-FF244FCB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92D-D499-466D-BF6A-42B43529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9F2-DF2E-48FF-9541-778550C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BB7-4176-4786-81DF-296D2D0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9EFB1-DCBF-4A52-8614-1B3359F40C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