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90313"/>
        <c:axId val="57892920"/>
      </c:barChart>
      <c:catAx>
        <c:axId val="85990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92920"/>
        <c:crosses val="autoZero"/>
        <c:auto val="1"/>
        <c:lblAlgn val="ctr"/>
        <c:lblOffset val="100"/>
        <c:noMultiLvlLbl val="0"/>
      </c:catAx>
      <c:valAx>
        <c:axId val="57892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90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CD9-2387-4459-8184-4742757B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256-DB42-4FB5-AA5C-F565D5DB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823-7FF8-47A8-A6DA-10178D88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CC9-D409-4702-9064-43A85838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725-0D0D-4F53-AD75-6E0671D4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6F1-FD9B-4BD4-A169-3CF47A56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08D-0CAB-492E-A371-4967C1BC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14A-D486-4EEC-9926-83BCF0F0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950-045D-427E-9D25-59B24587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841-683A-4A74-9A57-21E6E0BB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30D-0CBD-4CE3-B29B-75088D7D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52C-F39A-4123-B3CE-D1E27E48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CDA5F-BF98-4E67-A45B-1B8436B3F1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