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6107"/>
        <c:axId val="49134028"/>
      </c:barChart>
      <c:catAx>
        <c:axId val="1066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34028"/>
        <c:crosses val="autoZero"/>
        <c:auto val="1"/>
        <c:lblAlgn val="ctr"/>
        <c:lblOffset val="100"/>
        <c:noMultiLvlLbl val="0"/>
      </c:catAx>
      <c:valAx>
        <c:axId val="49134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6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04C-C239-48CD-9A9D-F36AA210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100-613A-4D4A-9DB5-BB6E988F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A88-C583-46DA-B7EF-8193D9E3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D0D-3377-490B-ACAD-3654C774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279-4787-4C7F-86CE-37B5F0A1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970-FA97-426D-9723-6029E77F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46A-B7D6-4270-BA8D-044DC467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28B-6E6F-40D3-A94D-066EB98A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A86-2DB0-4BCA-AB81-CB28C8D1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121-4B43-4CD6-8A8D-951EBDE8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4D2-74F3-40D8-9BFE-0D74B294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1D7-5D1C-4521-9D89-CBECBA0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CA7C0-5040-481A-80B2-C14B4F9121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