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34567"/>
        <c:axId val="88148161"/>
      </c:barChart>
      <c:catAx>
        <c:axId val="15734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48161"/>
        <c:crosses val="autoZero"/>
        <c:auto val="1"/>
        <c:lblAlgn val="ctr"/>
        <c:lblOffset val="100"/>
        <c:noMultiLvlLbl val="0"/>
      </c:catAx>
      <c:valAx>
        <c:axId val="88148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34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771-CA70-4BC4-BCCB-6C626BC8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F02-D0D7-419E-9C86-00A97D16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EB2-3F79-400F-BA8A-F9B2BCF7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55D-8171-4F76-A619-9637DC06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593-7061-4F7B-AE1D-15EC98F8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234-726F-4D46-8900-69DD3EDD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176-0590-44D8-917F-A7ED956C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4F5-20CE-411B-A669-96133513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B95-B503-41B5-ADB7-BC9C5A4C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A9D-BFF8-4D90-B1EF-E5AE91AB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47C-BB0A-4C95-98D0-9B5B38B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BAE-57B1-49C3-8F7B-B5BE69E3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CC6D1-EF75-46C2-BA32-33EDE5CEE6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