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439512"/>
        <c:axId val="80110600"/>
      </c:barChart>
      <c:catAx>
        <c:axId val="394395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110600"/>
        <c:crosses val="autoZero"/>
        <c:auto val="1"/>
        <c:lblAlgn val="ctr"/>
        <c:lblOffset val="100"/>
        <c:noMultiLvlLbl val="0"/>
      </c:catAx>
      <c:valAx>
        <c:axId val="801106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395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11ED-C73D-4339-9DCA-0B4CDB8F2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6C98-45CA-46A8-8DEE-7D530E46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5202-DEF8-4226-BFC1-CFD8286B6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2DC5-42DD-4AD8-9556-BCA322F8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35C0-5B72-4512-BCA1-248A7927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B386-CD4E-4022-BDFE-188C11DD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B569-F181-43B5-AFDC-7A29CA34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72D0-E3DF-4CDD-8D60-6663CCEC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288C-1F9A-48CD-A9C4-68AAB8D3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384B-FF0F-4DF4-BF25-BDD7AF95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1B96-9B3D-4FD4-9957-9D0BCB54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D7A4-A797-445B-AE77-1D5B8B94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36C62-F339-4988-9B84-8B715992D3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