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776347"/>
        <c:axId val="49479368"/>
      </c:barChart>
      <c:catAx>
        <c:axId val="387763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479368"/>
        <c:crosses val="autoZero"/>
        <c:auto val="1"/>
        <c:lblAlgn val="ctr"/>
        <c:lblOffset val="100"/>
        <c:noMultiLvlLbl val="0"/>
      </c:catAx>
      <c:valAx>
        <c:axId val="494793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7763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A7F0-B10E-4C7E-984E-88F6C4BBE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0F0C-CA76-4348-9AAA-5CA501AA1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BF87-8AB3-43B4-8D74-7A2F15BD2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7C5C-3AAC-4FCD-BC35-CE4E326F7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D886-DDD7-4D3A-ABC3-41FDB6036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340A-FF7C-4799-841D-3B5724195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AFAF-9939-4052-A347-FD1A13A7F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74DA-DF79-45FE-B107-A9F218892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5629-CFB6-4A82-97CE-E8035651A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C014-3380-4E24-AFE1-62B7B94E8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E3C3-4E53-4B0A-82B0-682533C3D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99B2-3A9B-4254-A2EA-FDCD1C07A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94FA5D-5108-4C06-A132-4984409DEAD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