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444078"/>
        <c:axId val="42549209"/>
      </c:barChart>
      <c:catAx>
        <c:axId val="994440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549209"/>
        <c:crosses val="autoZero"/>
        <c:auto val="1"/>
        <c:lblAlgn val="ctr"/>
        <c:lblOffset val="100"/>
        <c:noMultiLvlLbl val="0"/>
      </c:catAx>
      <c:valAx>
        <c:axId val="425492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4440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4227-F602-4A84-BF40-CF8991AE9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F8C2-C05E-4F0E-8D02-514BB0A15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863C-C9B4-4363-AB42-8D72BF9EB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0B5B-0769-459E-B8A3-71730117F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8510-739F-4678-95E3-B325BD00A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7F85-A976-454E-BB82-BD3B0973A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919E-D7EA-445C-9E63-519FD1281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2F7B-AC97-4ABD-9AA7-3A29563D7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26A7-D11D-4629-87D9-2C4181CE7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0FBB-85CF-4D45-866D-F4A5DFA1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4067-84DE-49D4-94CE-8392E8615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68A7-345C-403F-976D-53185CF76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362AD0-2A8E-4AFA-9614-849918D732B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