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510313"/>
        <c:axId val="66004955"/>
      </c:barChart>
      <c:catAx>
        <c:axId val="535103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004955"/>
        <c:crosses val="autoZero"/>
        <c:auto val="1"/>
        <c:lblAlgn val="ctr"/>
        <c:lblOffset val="100"/>
        <c:noMultiLvlLbl val="0"/>
      </c:catAx>
      <c:valAx>
        <c:axId val="660049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103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F6BF-0E81-45AA-BFA4-4E17715C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B4D7-54AF-494B-BEDB-9F779FFA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DF85-7A0D-4D01-9B07-1058BB33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D2A0-AC3B-43D8-A29B-EFCF872D8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EE4-4F73-4E64-BB61-5341D980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99AF-19D3-4908-A40D-1D1091D8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E81-0CCD-4240-9D70-7423D8F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AB8-F500-44AD-97F4-30FCA394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BB7-E3CB-4071-A489-E255ED48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81D-AE72-4B77-8FF9-EAC313F1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3D9-681A-4ED1-84D4-F1E0B01E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1B7-F4EE-4266-8FFD-B6742287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EE2EE-72C8-4FC4-9854-57BC0FE46E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