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74812"/>
        <c:axId val="76234302"/>
      </c:barChart>
      <c:catAx>
        <c:axId val="34574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4302"/>
        <c:crosses val="autoZero"/>
        <c:auto val="1"/>
        <c:lblAlgn val="ctr"/>
        <c:lblOffset val="100"/>
        <c:noMultiLvlLbl val="0"/>
      </c:catAx>
      <c:valAx>
        <c:axId val="76234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74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486-D379-4FD7-86D7-25EACB0C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077-5C22-4FE5-88B6-5421C939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734-F012-455A-8019-A2A7266A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408-7EFE-44C6-A373-468AC9D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2F8-ECCE-4957-AFCE-BE3DDE7B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466-3DCF-453E-8BFB-F292AE52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1C9-7577-4700-8539-DEA4A1EF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43D-1DF9-425E-84F5-46FCC573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B4F-CCC6-4B50-A8DC-67229C8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9AF-1AF7-4755-BD2F-46E14369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7E1-896F-433F-89EA-D16F2FF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9D0-36AE-48D5-8088-F16C620C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8BF52-CA0C-423F-A554-6B24BB174A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