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93745"/>
        <c:axId val="49045942"/>
      </c:barChart>
      <c:catAx>
        <c:axId val="43493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45942"/>
        <c:crosses val="autoZero"/>
        <c:auto val="1"/>
        <c:lblAlgn val="ctr"/>
        <c:lblOffset val="100"/>
        <c:noMultiLvlLbl val="0"/>
      </c:catAx>
      <c:valAx>
        <c:axId val="49045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93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65E-43BE-471E-A3BE-8091C3B7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C73-E73E-4900-9E31-47C5F9B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992-526F-41BB-AB26-6C5CB5F3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63A-0889-47D2-8CBD-BC090099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CA-CC85-4587-9859-FA22A6B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6C7-0623-4431-938F-AF7763C7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7CF-0317-44B5-A9B1-8FCD76A0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D00-0E37-4773-B640-E5A983D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EA3-1937-4EC1-A372-F82892D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CF5-4454-4EE1-954D-6F845AE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4C2-60E2-4DDA-A12C-DD23AE79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A4A-2132-464E-A784-1F40CCDC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7207D-88B9-4ADF-AC58-4307A1863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