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36298"/>
        <c:axId val="16841514"/>
      </c:barChart>
      <c:catAx>
        <c:axId val="66736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41514"/>
        <c:crosses val="autoZero"/>
        <c:auto val="1"/>
        <c:lblAlgn val="ctr"/>
        <c:lblOffset val="100"/>
        <c:noMultiLvlLbl val="0"/>
      </c:catAx>
      <c:valAx>
        <c:axId val="16841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6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E8F-F47F-48E6-958B-54949630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D08-A924-4FB3-9010-920A2630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6E4-FD60-47B2-8496-62E1AB93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2BA-03C3-4013-8682-C490D004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0D0-F7B3-4E0C-8C2A-F7BAAA08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E6A-0548-4491-A139-959674F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2F4-AF49-4E4B-8CB6-F45943FC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1A5-2B52-4C81-9851-2A5776B3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6F0-5DBA-4568-8DA4-7A6F916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441-9BB3-41CD-A1B1-E29432A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22C-8EF8-4CDB-8AC6-9325CA6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C61-2A01-43F4-A2F6-6ACCFE8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01883-34B9-4632-B864-B553881E5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