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2810"/>
        <c:axId val="97307428"/>
      </c:barChart>
      <c:catAx>
        <c:axId val="3692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07428"/>
        <c:crosses val="autoZero"/>
        <c:auto val="1"/>
        <c:lblAlgn val="ctr"/>
        <c:lblOffset val="100"/>
        <c:noMultiLvlLbl val="0"/>
      </c:catAx>
      <c:valAx>
        <c:axId val="97307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2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BCF-3E9F-4894-A5AB-457F11DD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D36-FD24-4D1C-8F44-CFF564E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D79-023F-4D1C-81C9-84FA7BE8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6F9-4389-4877-8284-11560267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711-7941-4722-80D8-00222C69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972-844D-4261-B923-97B1A6D4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FA0-D438-4B91-855C-8E179BE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674-5BFD-4028-AEC5-4BBDEE62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8D3-5D29-48E1-B507-2AA42A03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7D5-D6BA-49F1-AB78-59E4524D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F12-037B-436D-B82C-4790479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A7B-39A2-477E-B8F3-7CF257C9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C4D2B-FEED-4933-8C90-0888974A7F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