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08619"/>
        <c:axId val="31177872"/>
      </c:barChart>
      <c:catAx>
        <c:axId val="17608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77872"/>
        <c:crosses val="autoZero"/>
        <c:auto val="1"/>
        <c:lblAlgn val="ctr"/>
        <c:lblOffset val="100"/>
        <c:noMultiLvlLbl val="0"/>
      </c:catAx>
      <c:valAx>
        <c:axId val="31177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08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533-D3B8-4E15-9208-38784926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EE4-F261-4CAE-A18E-AF50F98B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C65-1797-41DC-A2FF-3D498ABA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A03-4254-4CD6-BE14-A69A0045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537-B009-439C-887B-C9BCFD0D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911-EEF8-4664-8BB0-10976E7B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152-02E7-4B6F-A672-643E5ABF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5BC-74EE-4729-86F6-961E8A2F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A13-A491-4C99-8AD2-7C45F4D4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7BA-E669-4418-BCFF-C748AC23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8AD-3BEF-4F82-B218-78957022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9F1-B2B5-402D-8B94-9E1E2723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B3BC3-966D-4D2B-B31B-D55328A5C0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