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20226"/>
        <c:axId val="95295089"/>
      </c:barChart>
      <c:catAx>
        <c:axId val="71202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95089"/>
        <c:crosses val="autoZero"/>
        <c:auto val="1"/>
        <c:lblAlgn val="ctr"/>
        <c:lblOffset val="100"/>
        <c:noMultiLvlLbl val="0"/>
      </c:catAx>
      <c:valAx>
        <c:axId val="952950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02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1249-CE98-4B6E-ADC9-93B36AA2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0409-AAFE-4383-AEDC-9B20A461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D601-22B5-4BC2-A197-BD28EA44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4328-35FA-4D93-A69D-5F948E9F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FD6C-E716-4F49-85F0-A22359E2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1E0-B1AA-422E-A4FB-BFAB0556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0155-3752-41F6-8498-EEA6C9B6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E80C-302B-4556-A7FA-BFD33A91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BC71-8F01-4131-96CA-21733C35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B5BC-38A2-4BFC-A560-442B1577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15B5-90C4-4B3C-9E1F-A8A1CD46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40ED-366D-4D53-9C8E-05A669C5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E7A35-2C7E-4933-B61D-17F01E2E68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