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31797"/>
        <c:axId val="87837138"/>
      </c:barChart>
      <c:catAx>
        <c:axId val="76131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37138"/>
        <c:crosses val="autoZero"/>
        <c:auto val="1"/>
        <c:lblAlgn val="ctr"/>
        <c:lblOffset val="100"/>
        <c:noMultiLvlLbl val="0"/>
      </c:catAx>
      <c:valAx>
        <c:axId val="87837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31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F45-351B-45D7-A956-FFA859CD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10C-064F-49B0-99B3-F59BBA2B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57C-FA29-4B78-9EBE-49EE3885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2C5-3D7E-4EE5-8BF6-500A6356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194-A651-42A5-9671-29A22B71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991-938A-4F6B-9BA8-C81D92AF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9A4-0620-4496-B865-DDFFA76E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CCF-C747-4F8E-AB1C-0E524DAC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146-7D12-4EA4-87A6-5EA21191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A4E-82E2-4D71-9469-707AA95F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1D5-4AA1-4A4D-AD08-89E5D51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6DB-BD8E-45D5-8F46-3FE18C6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5D536-9305-48C3-B3A3-CD7CEF63F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