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09133"/>
        <c:axId val="59077724"/>
      </c:barChart>
      <c:catAx>
        <c:axId val="1810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77724"/>
        <c:crosses val="autoZero"/>
        <c:auto val="1"/>
        <c:lblAlgn val="ctr"/>
        <c:lblOffset val="100"/>
        <c:noMultiLvlLbl val="0"/>
      </c:catAx>
      <c:valAx>
        <c:axId val="59077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0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62C-F96C-409E-BBAD-F93DBA86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7AF-0FAA-42B4-B5FB-8DD9A52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F71-A319-46C5-ABA9-C507E80E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1C7-8CBD-4470-B4D5-8F5EF824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997-E432-499F-BBA5-1E6431F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23C-E6C8-498B-8F19-B8B4CD8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A73-0883-45D7-BEE3-42EA46C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EFF-10D9-4FAF-B50D-3D0EAF3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4D5-406A-46D0-B03C-1732BFEC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A96-A8DC-48A6-89FA-740ABD6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348-37FC-49FA-8326-C94954A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353-F06B-403E-87D4-6B7A075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595EC-6B35-423B-A2C8-852469BE0B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