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929226"/>
        <c:axId val="27659817"/>
      </c:barChart>
      <c:catAx>
        <c:axId val="889292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59817"/>
        <c:crosses val="autoZero"/>
        <c:auto val="1"/>
        <c:lblAlgn val="ctr"/>
        <c:lblOffset val="100"/>
        <c:noMultiLvlLbl val="0"/>
      </c:catAx>
      <c:valAx>
        <c:axId val="276598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292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095D-16C0-4254-803D-099B687F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B56E-CBAF-4B84-8B85-A2409E0B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BD96-617F-48B8-A2A6-C628F4FB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969-938D-423E-B204-1F65C8CE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5DF3-ED08-44D1-AC38-1C46C983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5B3E-C24D-4E15-A19D-EBAF0210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7AD8-8308-4D6F-8C95-CEF7C6F3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E51C-E7ED-45DC-ABAB-C64204BF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A1DD-71F7-48F3-8D2A-65B669B1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14C8-7574-4FE3-8877-D0A3393C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9FEA-4934-4A70-AF32-CF4E16BF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A9FF-B00C-4A85-9C0F-79E4A180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E9C73-CC30-4DBC-AE60-5860A5C8E6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