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17446"/>
        <c:axId val="6410436"/>
      </c:barChart>
      <c:catAx>
        <c:axId val="14317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0436"/>
        <c:crosses val="autoZero"/>
        <c:auto val="1"/>
        <c:lblAlgn val="ctr"/>
        <c:lblOffset val="100"/>
        <c:noMultiLvlLbl val="0"/>
      </c:catAx>
      <c:valAx>
        <c:axId val="64104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17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733-30E3-4BD5-909C-C6E87603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3CA-A08B-49E8-85F7-B54E83EE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253-4868-4026-840F-3F1830EB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7CB-AE16-464A-B919-566CEEEF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E24-0E3D-41EF-B6C3-A7241247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599-0E37-484C-93FE-08B2C080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B72-D471-459D-AE75-C5B1D824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C4B-845F-46A3-A061-77CF3397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AF1-7C0B-4D6F-8D3F-B3D930B1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846-DDBF-4DD5-B30B-8CE05A87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23B-A4C0-4D5A-B433-7CBCE003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2F2-2D5E-40D6-BFA8-BCA26785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07516-773F-4210-A9E2-933A92F14C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