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0423653"/>
        <c:axId val="78426309"/>
      </c:barChart>
      <c:catAx>
        <c:axId val="3042365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426309"/>
        <c:crosses val="autoZero"/>
        <c:auto val="1"/>
        <c:lblAlgn val="ctr"/>
        <c:lblOffset val="100"/>
        <c:noMultiLvlLbl val="0"/>
      </c:catAx>
      <c:valAx>
        <c:axId val="7842630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42365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11364-1707-41A6-A8C3-FC1F80997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999D8-D415-4976-B5DF-B514EB87C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3E7BC-8627-4A9C-BB28-ADF5AD932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F1BBB-F6F2-4292-97C1-54A2F1CA0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87845-725E-4B70-AB16-A44457CAC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01F62-D1AA-466A-8F91-FBEF77017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6AC81-0AFD-4963-AE2B-1AD397977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B57A6-B5AC-4295-A4F2-BA6C4A50E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98EC0-D088-42B1-B9FC-18665D2C3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F1031-737E-48F9-B8C6-8B3018134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22835-F324-4F2F-BD91-89B9C3FF3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543DC-9561-4A42-B045-177BA3D92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2AFAE1-F3F5-4976-A699-B4C4CA3C8CA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