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52007"/>
        <c:axId val="21411897"/>
      </c:barChart>
      <c:catAx>
        <c:axId val="48552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11897"/>
        <c:crosses val="autoZero"/>
        <c:auto val="1"/>
        <c:lblAlgn val="ctr"/>
        <c:lblOffset val="100"/>
        <c:noMultiLvlLbl val="0"/>
      </c:catAx>
      <c:valAx>
        <c:axId val="21411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52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1B6-4BCB-4B06-B35A-7D9EF238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E72-56CB-45DF-B6A6-4B8A5C39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B7F-2A09-4D0B-BD96-7FF41DFE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74D-8783-4A89-9689-07A69D7F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C6B-0172-47A6-8E39-DCF25588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FFD-C8F4-40D4-B657-A6556E66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406-DD26-4C95-BFDD-4E4EFA54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987-7FFF-477E-AD9A-DEC582A8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983-2B08-4FA5-BF76-84C3D07E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F18-703B-4BFC-8DF4-5A34A53B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98C7-2E16-4A66-A8DE-CE2E122D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6D6-292D-4FDF-9E6F-4D4F9ED6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A4AC5-C771-46B3-918D-2F2A7836C1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