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599420"/>
        <c:axId val="53822384"/>
      </c:barChart>
      <c:catAx>
        <c:axId val="975994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22384"/>
        <c:crosses val="autoZero"/>
        <c:auto val="1"/>
        <c:lblAlgn val="ctr"/>
        <c:lblOffset val="100"/>
        <c:noMultiLvlLbl val="0"/>
      </c:catAx>
      <c:valAx>
        <c:axId val="538223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5994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5409-6F77-43A9-8614-9F03CFDB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C3D8-D40E-4F3E-8010-C10BEF30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D6FA-73F5-4689-8CC5-42BA9583B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2481-6260-4C74-8B39-0DAB104E6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5A9F-D779-4C8B-B446-F252CB77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4D18-F3EB-4912-9FCA-DC7198DE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4B21-4136-4B7E-AE0C-2AB55608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57D1-393C-4244-8E47-849EE20E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1DAB-11A4-49D5-8311-A9CA093A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6C0E-A151-488E-A986-4150B7CA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ABEE-441F-454E-B8E1-004CE488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ECDF-4827-48DC-BE1F-F571220A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481BB2-50ED-4735-9997-9EBE991C10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