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072328"/>
        <c:axId val="46004039"/>
      </c:barChart>
      <c:catAx>
        <c:axId val="68072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004039"/>
        <c:crosses val="autoZero"/>
        <c:auto val="1"/>
        <c:lblAlgn val="ctr"/>
        <c:lblOffset val="100"/>
        <c:noMultiLvlLbl val="0"/>
      </c:catAx>
      <c:valAx>
        <c:axId val="46004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072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3580-DBF9-4339-9479-DACF0C05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210E-D9DB-4302-9722-37F0B2EC7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D7BB-9A6F-4E45-8441-143256032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E705-E8A2-4C64-9059-497A7DA02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E1D7-05E6-49A2-B378-D430883CA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900-CF1B-4AB2-9063-EC6BB05FF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78AD-4959-4375-B0A5-C12556808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4DD6-A396-44F1-BD79-182C6B176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9AC4-7A6B-415C-A945-40C616BD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1CBA-35BE-4B90-876D-52634F7A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C590F-BF15-450E-8662-A193E19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9FE9-ABEB-40C5-80C3-9D4512EC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4C4733-C2F2-42E3-B44D-2FE97A3355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