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32825"/>
        <c:axId val="27756130"/>
      </c:barChart>
      <c:catAx>
        <c:axId val="37932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56130"/>
        <c:crosses val="autoZero"/>
        <c:auto val="1"/>
        <c:lblAlgn val="ctr"/>
        <c:lblOffset val="100"/>
        <c:noMultiLvlLbl val="0"/>
      </c:catAx>
      <c:valAx>
        <c:axId val="27756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32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26D-34A5-4205-B312-14060461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106-12A1-478D-B183-E9BFB600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490-0AAF-4391-BBB8-9F966440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E09-A10D-4727-83F1-F034E810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254-E0D8-4F2D-8B27-71C2AD3B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8D7-5CF7-44B0-A114-236A3A7B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0AD-1B42-46EE-BAFE-8C459278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376-138C-4379-961E-95D8B766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6EB-4CCA-48EF-BD07-4E94DF21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0CB-339A-43CB-B463-9AC71EE6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C6B-DE5E-47EE-A179-3C8E2F2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6FB-20AA-4466-9EC8-9B27B4BF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21C47-2B5F-4B68-822F-8EB42722A4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