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76902"/>
        <c:axId val="91863181"/>
      </c:barChart>
      <c:catAx>
        <c:axId val="28076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3181"/>
        <c:crosses val="autoZero"/>
        <c:auto val="1"/>
        <c:lblAlgn val="ctr"/>
        <c:lblOffset val="100"/>
        <c:noMultiLvlLbl val="0"/>
      </c:catAx>
      <c:valAx>
        <c:axId val="91863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76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796-7055-4AD6-8A6A-A716AD5F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A90-8D28-47C1-8DFD-6E60B69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1BC-C5BF-4554-A254-541CCE0E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4A5-621C-4C70-B924-23EF2F54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87F-DE7E-41C2-9ACD-420C250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A4B-5946-4895-B464-2EDB2759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716-0C86-4C5E-8F3E-7D335A4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5F2-62A8-47EC-9BFF-C61FD5E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3B8-C812-48AF-B11E-771957E4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2DB-DEBD-4C26-991B-3041BCF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04E-3F22-4F0D-831E-71B67EF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16-67A0-4626-9A1C-81FEB66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D5219-5B0D-4E2D-975E-4EDCEF257A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