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65324"/>
        <c:axId val="76297634"/>
      </c:barChart>
      <c:catAx>
        <c:axId val="58265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97634"/>
        <c:crosses val="autoZero"/>
        <c:auto val="1"/>
        <c:lblAlgn val="ctr"/>
        <c:lblOffset val="100"/>
        <c:noMultiLvlLbl val="0"/>
      </c:catAx>
      <c:valAx>
        <c:axId val="76297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65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3C2-67EB-4792-8280-E2214FF7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222-97D1-4B00-8120-7D49E285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7CD-046B-43D6-BB54-97885842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88F-C947-4CCF-97DB-987995B9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D77-10DB-4298-A71D-F46ED8F1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A3F-BFEB-4B40-8342-8CBDD60A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036-6849-4C1F-B062-B90D2492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292-9170-416B-BDEE-CB025552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2CF-143C-4299-B3B5-F58775B7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00A-EB36-41CB-B35D-657CDE94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56D-BEEE-4531-AAC6-BF0F264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53D-AC77-4302-976F-63B15BBD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C312C-8A05-4898-B640-165FCF1DF2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