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43473"/>
        <c:axId val="89916476"/>
      </c:barChart>
      <c:catAx>
        <c:axId val="52443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16476"/>
        <c:crosses val="autoZero"/>
        <c:auto val="1"/>
        <c:lblAlgn val="ctr"/>
        <c:lblOffset val="100"/>
        <c:noMultiLvlLbl val="0"/>
      </c:catAx>
      <c:valAx>
        <c:axId val="89916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43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85C-B445-4100-AE59-D2EF5494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E7F-22FF-48F8-9205-503E3D7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DC9-2D30-43E7-AD8C-ED1B5597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BAE-A94A-423B-B967-3CE3D4E5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F1B-7262-44CF-9915-F1D13AD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E7C-7FA1-4266-BAAE-8C8D21B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F99-8B62-4BB8-97A2-A0783A80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3FC-78CB-4A14-B524-0D7B00AD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D81-2019-4424-9953-CDBDD45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6C6-BEF8-4FB4-9AEA-BF05FF9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2C9-B6D7-45B6-9373-6506BD5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5E9-857B-40D7-BD89-92DBF4C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0C6D2-B139-441B-8F03-14DDC7849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