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84931"/>
        <c:axId val="69477142"/>
      </c:barChart>
      <c:catAx>
        <c:axId val="36484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77142"/>
        <c:crosses val="autoZero"/>
        <c:auto val="1"/>
        <c:lblAlgn val="ctr"/>
        <c:lblOffset val="100"/>
        <c:noMultiLvlLbl val="0"/>
      </c:catAx>
      <c:valAx>
        <c:axId val="69477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84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B2E-DDAF-460D-BCDA-6B5D36D7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F7B-2E74-4AD0-9C1A-59D01164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A2F-DFC5-44CA-A564-892C2555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C94-D81B-4BC0-BF00-26C70B74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D9A-C8E7-4C6C-9AFF-3F56DE39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9E1-744C-41A7-8F6A-EFDB7017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05C-3BBE-4222-B909-56D6014F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018-AC4A-4C1E-AEF0-E0115EDA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2D0-6381-4DC9-A7CA-4600D692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C8C-BF7F-4F81-8B0C-23269BEB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7AF-93F1-4281-8EFC-5BE8646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4A6-D4D9-4416-AFB5-D9303CDD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410FA-49C1-420C-95C5-6BC9FA4377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