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9350022"/>
        <c:axId val="45255527"/>
      </c:barChart>
      <c:catAx>
        <c:axId val="9935002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255527"/>
        <c:crosses val="autoZero"/>
        <c:auto val="1"/>
        <c:lblAlgn val="ctr"/>
        <c:lblOffset val="100"/>
        <c:noMultiLvlLbl val="0"/>
      </c:catAx>
      <c:valAx>
        <c:axId val="4525552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35002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A06E-FB16-4363-BD4D-0BFF70384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1D4E-68D7-4339-8989-73E37A622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99AC-4F32-4B51-B78D-C3E5567BB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BED0-3787-4615-8373-F5F5DDC13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456E-4C09-4B58-B5AE-ED13158EB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2782-1BB6-4FE6-ABB0-B1DC5AD43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84C4-ADAE-43F3-863E-9F9364BB1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8832-3D4F-4582-806A-9F21A1929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81DF-CB19-4340-A9FC-AD08087AE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2066-700A-4C19-B46A-A3C6A4BD9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E9F7-1D0A-4E62-8D1A-228536D8B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09B8-A361-402B-B17C-BFCE13306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9D307C-B80C-44FF-9C74-4BBAC7E993B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