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8351"/>
        <c:axId val="14402561"/>
      </c:barChart>
      <c:catAx>
        <c:axId val="6268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02561"/>
        <c:crosses val="autoZero"/>
        <c:auto val="1"/>
        <c:lblAlgn val="ctr"/>
        <c:lblOffset val="100"/>
        <c:noMultiLvlLbl val="0"/>
      </c:catAx>
      <c:valAx>
        <c:axId val="14402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742-F7B6-4F19-BFAB-12CE1A7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345-A8A1-4B33-8A9A-5D50B86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DD5-FE4F-4C6D-8DE4-95B96465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947-1215-4688-AC27-FD29C80D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FDB-2811-415B-948A-4A778F7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DBA-175C-4110-AF2E-5E2D0440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A14-CD66-47A2-AF5C-F0292C0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631-705A-43EE-8EA9-37DA25A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28A-8F7A-423B-B902-6106C7DC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B97-F9C9-4E70-8C9C-052DCF8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181-3B21-4FE0-8EFA-D2CC70B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577-8EEE-4D4F-8602-F0BE5DE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6570-7276-461E-9FE5-EFAB5C273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