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5219"/>
        <c:axId val="75703647"/>
      </c:barChart>
      <c:catAx>
        <c:axId val="9715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03647"/>
        <c:crosses val="autoZero"/>
        <c:auto val="1"/>
        <c:lblAlgn val="ctr"/>
        <c:lblOffset val="100"/>
        <c:noMultiLvlLbl val="0"/>
      </c:catAx>
      <c:valAx>
        <c:axId val="75703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5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A35-A016-4B6D-8EB0-E1C1788E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EA3-D1CC-405A-82FD-E9C8F65B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AEAC-2D19-4532-AA03-9217968E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A0FF-DD61-48EC-8B75-300A47B5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183-3450-44F4-9247-D2F8184B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250F-1ABA-46F9-8F8E-BB975D75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FE7-6513-44C0-9ACB-296CF570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B2D9-5140-4224-9D5A-1DD4D93B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5E15-1295-4B6E-A7E8-2B7B959E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6C6-5556-47BA-A9CE-83BD208F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BBAF-956F-4FE2-9E0F-11B75B17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6F66-7CCB-464C-A7C6-B6272689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0E8D5-4940-414E-A9CA-50089565E7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