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08469"/>
        <c:axId val="80971570"/>
      </c:barChart>
      <c:catAx>
        <c:axId val="68508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71570"/>
        <c:crosses val="autoZero"/>
        <c:auto val="1"/>
        <c:lblAlgn val="ctr"/>
        <c:lblOffset val="100"/>
        <c:noMultiLvlLbl val="0"/>
      </c:catAx>
      <c:valAx>
        <c:axId val="80971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08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C23-A1A5-4BAB-B0CC-DB2DD5C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18D-06DD-4FBA-BB39-AF2D634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0D5-AE69-4F48-85B7-CE6E44E1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077-8A4F-487C-9FE3-34779655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497-A8F7-46B7-A073-BBA5293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0AF-41C3-4AFA-AFFC-BCBC0A3C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63E-CF09-4631-AA9C-F28D41E2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4E4-4B49-43A3-AB97-231C086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50E-C976-4E22-8B98-0D179EAA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F69-8B10-40F8-9BFF-9750002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252-3876-493F-B21A-E50B685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BC7-CBDE-4F44-836B-F3A82FE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0B3D7-E83A-45BB-B03E-16192EDB9C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