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70059"/>
        <c:axId val="36544802"/>
      </c:barChart>
      <c:catAx>
        <c:axId val="43070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4802"/>
        <c:crosses val="autoZero"/>
        <c:auto val="1"/>
        <c:lblAlgn val="ctr"/>
        <c:lblOffset val="100"/>
        <c:noMultiLvlLbl val="0"/>
      </c:catAx>
      <c:valAx>
        <c:axId val="36544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0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C98-B9BD-4B6F-B450-1244A7AB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A0F-15ED-47DF-A030-80781731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C9B-0E1E-4FA3-BD22-85D23ABA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117-E47C-4940-AED4-0AAEE97E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4C3-92CA-4144-8B9F-0392F48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B33-2146-466F-8DBF-6EDF99D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EE1-419B-432E-AD60-0360205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22F-120D-48D3-B38E-70A965D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550-0725-4A27-A707-AAECEA3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715-7B94-4138-8EFC-10D9F01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E66-67AD-4D9C-90CE-8E5FD12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ACD-49C0-4E6F-97AD-0E4BC92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917BE-58B8-44E2-96CF-B8B6F4E89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