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410336"/>
        <c:axId val="352147"/>
      </c:barChart>
      <c:catAx>
        <c:axId val="55410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147"/>
        <c:crosses val="autoZero"/>
        <c:auto val="1"/>
        <c:lblAlgn val="ctr"/>
        <c:lblOffset val="100"/>
        <c:noMultiLvlLbl val="0"/>
      </c:catAx>
      <c:valAx>
        <c:axId val="352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10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EF0A-4DAA-486A-8D95-3A5C0421C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7B58-22E9-498B-9EB9-59FEB902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026C-2D3D-4277-B886-9606FD892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E5B8-FA6A-48BC-8C7D-F8F8519F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2BB-8DC7-4CC5-B033-C1F3BCD7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E6F-214C-4C3F-885A-AEC32D26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657-97F3-4EC7-9E80-8D3715987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328-D086-4299-B3E9-65A261649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6E7D-D592-4B0A-96D9-E8A8E6C8E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02B-8C74-46FE-9043-0103FE53F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2BF4-F718-4FA2-ACD0-AB996D004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6558-9424-444B-B293-D9AED356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5EC562-C1A2-4E08-8D9B-72BC27BEAE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