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16113"/>
        <c:axId val="83808447"/>
      </c:barChart>
      <c:catAx>
        <c:axId val="95016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08447"/>
        <c:crosses val="autoZero"/>
        <c:auto val="1"/>
        <c:lblAlgn val="ctr"/>
        <c:lblOffset val="100"/>
        <c:noMultiLvlLbl val="0"/>
      </c:catAx>
      <c:valAx>
        <c:axId val="83808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16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0A7-5062-4FE3-8236-0364A439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714-2323-45C0-B8DA-CE0DBB27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40C-79CD-4B0A-9DE3-6A66502F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288-B818-4AA2-B887-4707D010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5E5-B5B7-401E-91A6-B2183499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1F2-C5BD-4546-B37E-D463C534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E61-6507-4F79-ADD7-66A6C579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65D-73A3-48DA-B34B-4EA5ABD7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A9A-7F0C-43C6-9F6E-35990E5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900-5A0C-458E-AE79-59CCEC59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913-1266-4381-89B7-387CF42B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101-73B8-4EBA-B14F-40A5AF3D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0AF19-81B6-432D-A8AD-407832800C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