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41333"/>
        <c:axId val="48724379"/>
      </c:barChart>
      <c:catAx>
        <c:axId val="87541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24379"/>
        <c:crosses val="autoZero"/>
        <c:auto val="1"/>
        <c:lblAlgn val="ctr"/>
        <c:lblOffset val="100"/>
        <c:noMultiLvlLbl val="0"/>
      </c:catAx>
      <c:valAx>
        <c:axId val="48724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41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909-2F75-4277-9BC6-F35A90B9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3A8-754B-48E3-A3C0-7F5CE455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0B2-F8DF-46AD-8EBD-024A7C91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71D-5F9F-413F-892D-20715863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2EB-95A9-4C66-B44E-D56EE0B3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535-4095-4956-A53D-B01466C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783-730B-4693-8820-5B183BF3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848-1C14-4F7D-AC08-F8E7944A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5BB-8BC0-4657-B33A-0698B7FB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3C5-B9C3-479B-9EE9-3614D1CA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469-AC5E-48F9-88F8-E5CABC5F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90B-7A2B-4C4F-A1C6-01E7ECAD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22480-D3B8-4B75-BD77-E53D24FA06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