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49356"/>
        <c:axId val="75541255"/>
      </c:barChart>
      <c:catAx>
        <c:axId val="38249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41255"/>
        <c:crosses val="autoZero"/>
        <c:auto val="1"/>
        <c:lblAlgn val="ctr"/>
        <c:lblOffset val="100"/>
        <c:noMultiLvlLbl val="0"/>
      </c:catAx>
      <c:valAx>
        <c:axId val="75541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49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585-33A8-4060-A19E-18039DCC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4E4-4262-4330-B0D2-2FF53F9A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FB4-CDA0-4889-AC17-9E033391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274-F577-40B7-B9A7-2CCE1C4B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AE4-114D-4E73-80C3-AA599417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3BB0-C504-4BE5-ABC5-411EAF61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1A9-E7F3-4FAA-A9D7-511F86CA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F82-9CAA-41C6-BCEE-C3631753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283-327B-4D02-A55C-A1F91A44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368-95B1-4E2E-B3BD-0B488CED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53B-E1CC-4A50-9F6E-74E72368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D7B-CA4B-4CFE-A012-6CB91166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99837-D168-4349-BB02-0E57ACD65A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