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55133"/>
        <c:axId val="81926133"/>
      </c:barChart>
      <c:catAx>
        <c:axId val="18155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26133"/>
        <c:crosses val="autoZero"/>
        <c:auto val="1"/>
        <c:lblAlgn val="ctr"/>
        <c:lblOffset val="100"/>
        <c:noMultiLvlLbl val="0"/>
      </c:catAx>
      <c:valAx>
        <c:axId val="81926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5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A89-8EA2-4782-9490-FB2897E8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49E-484A-4229-8ABB-BFDDA121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DC5-7CD8-46EF-B8B4-0807AACD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768-C5DA-43D0-9877-7B284A72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818-7DFF-40A3-9D0D-43C10E0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3DF-5165-4C43-99B1-485FDE1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D93-6236-4E42-9CE2-F2901563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0A2-3E12-4761-A9F5-330E8C7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69C-64E1-4B8B-858B-D11A3A5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368-32C6-4047-8BF6-EE95BE49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4FB-6351-4A43-AAD4-C373160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D72-52E5-411A-A611-D9A5517E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EC54B-91EB-4DD2-8D03-98BA5E802F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