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87519"/>
        <c:axId val="38646086"/>
      </c:barChart>
      <c:catAx>
        <c:axId val="59587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46086"/>
        <c:crosses val="autoZero"/>
        <c:auto val="1"/>
        <c:lblAlgn val="ctr"/>
        <c:lblOffset val="100"/>
        <c:noMultiLvlLbl val="0"/>
      </c:catAx>
      <c:valAx>
        <c:axId val="38646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87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B7D-90E7-46BB-BAB1-71D20A65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4FB-87D0-44AD-8B74-1697B9D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081-E8F3-4E19-AFB8-62D243F7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7E2-EC02-4815-98F9-3D7201E0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C21-B48F-4B4F-8E4D-CB2350A8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5FC-70AF-472B-91E8-4FD0DDF7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F3F-A2CA-44F7-9DE9-DB5DCF6A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C72-367E-462C-99E6-BBC63E8C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FE7-238D-4A40-B2F0-21A29AB2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5B0-6268-48EF-BE7A-A4AA281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803-7E8E-4A6D-AEBF-B9607472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B9B-EF0A-4EDF-9342-145619A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81083-314D-48C0-992C-0C96C6DAA5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