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940811"/>
        <c:axId val="14232240"/>
      </c:barChart>
      <c:catAx>
        <c:axId val="579408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32240"/>
        <c:crosses val="autoZero"/>
        <c:auto val="1"/>
        <c:lblAlgn val="ctr"/>
        <c:lblOffset val="100"/>
        <c:noMultiLvlLbl val="0"/>
      </c:catAx>
      <c:valAx>
        <c:axId val="142322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408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FAC-99F3-4232-8F8F-8CA107BE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16D-3F89-4A94-87B4-0DC97D8F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001-CE79-4410-A896-68937287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E63-76CE-4CF5-BC50-E86A9343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069-8C28-4FA2-A60C-936E4D4E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D4A-8667-4BF7-B888-5F92175B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929-6020-4789-AA98-5B45D975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8B76-E7F3-4F81-8C5B-017563BA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8775-64E5-43CF-8650-FD34A669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008-DCBE-4661-8702-545AC652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697-DDE3-4F86-814B-1EB0A6A7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022-99AD-4203-831F-A47806EF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A2101-72A5-470E-8BE1-630D2548C6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