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1432210"/>
        <c:axId val="29667533"/>
      </c:barChart>
      <c:catAx>
        <c:axId val="4143221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667533"/>
        <c:crosses val="autoZero"/>
        <c:auto val="1"/>
        <c:lblAlgn val="ctr"/>
        <c:lblOffset val="100"/>
        <c:noMultiLvlLbl val="0"/>
      </c:catAx>
      <c:valAx>
        <c:axId val="2966753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43221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7D44B-2BF7-4A4B-B272-19555E2B5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CC648-2E47-478A-BCC0-5CE69F700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292AB-C095-45C5-AE00-3E32E6CD9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CA9B7-81CD-4433-9FCA-2698327DD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62D49-548D-4356-8FEF-219971E5B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3DB8C-EB4C-4D91-90D8-923FADAD0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09C12-2774-402C-AC40-C34859701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F981E-F4D2-4D2D-B699-55CD6FA72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5A49B-CF2D-40D6-9AF0-8132D2B64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5AA2C-465D-4593-A6D9-8E20EDBF3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08737-0CF2-4CB0-818F-D80390AF2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87798-61ED-4D48-90C5-998A361EF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4AA214-CAA9-4A27-9A68-A420763AA1D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