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11499"/>
        <c:axId val="77426090"/>
      </c:barChart>
      <c:catAx>
        <c:axId val="71511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26090"/>
        <c:crosses val="autoZero"/>
        <c:auto val="1"/>
        <c:lblAlgn val="ctr"/>
        <c:lblOffset val="100"/>
        <c:noMultiLvlLbl val="0"/>
      </c:catAx>
      <c:valAx>
        <c:axId val="77426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1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379-EB37-41AF-9ABA-0982CA4D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A28-00CD-438B-A4F5-A9CD8B9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673-1ED2-4505-8FEB-51BD2DB0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0A2-EBC9-4510-B9AD-ABFAE256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6DA-5E2C-44BE-AAAC-486BCD7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C20-64EB-485D-B8C2-9A73FAA3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D23-DCAD-4150-8D79-5E728D15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120-3566-4583-A93C-7F4D1950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915-114F-4595-AB3F-E37DCD12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E54-FAFA-4942-92A7-DE2E45A5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938-F84F-4EB1-94DC-808D628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86F-1A84-49D6-9FC8-CD502401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2F1D-395D-40CF-987B-E0639C25F9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