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55456"/>
        <c:axId val="49987934"/>
      </c:barChart>
      <c:catAx>
        <c:axId val="11155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87934"/>
        <c:crosses val="autoZero"/>
        <c:auto val="1"/>
        <c:lblAlgn val="ctr"/>
        <c:lblOffset val="100"/>
        <c:noMultiLvlLbl val="0"/>
      </c:catAx>
      <c:valAx>
        <c:axId val="499879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55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F61-FD17-49E5-A1AE-2987FC9B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8F2-A25C-4C1A-A4AD-92F618CD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D9BF-E882-4681-958C-53508BD5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B71-ED27-41BF-8AE9-0793A3FC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4B3B-0080-4B8E-8ED8-3D2BEB30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A97-AD1D-4EC3-A005-D248E506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FD12-072D-4D35-9C33-99CC97C1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C9F-A586-400A-868E-10E0DA08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61AA-9411-4672-83F7-75C128CD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80E-7EAF-4EFB-9F9F-69225F56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E60C-9BE1-4DCF-A2E6-E283440A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4C6-72BE-42C9-AC9C-D6A988BC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6558D-F382-4117-A422-EE1D9B4655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