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72174"/>
        <c:axId val="43818299"/>
      </c:barChart>
      <c:catAx>
        <c:axId val="13072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18299"/>
        <c:crosses val="autoZero"/>
        <c:auto val="1"/>
        <c:lblAlgn val="ctr"/>
        <c:lblOffset val="100"/>
        <c:noMultiLvlLbl val="0"/>
      </c:catAx>
      <c:valAx>
        <c:axId val="43818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72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BAA-458D-4258-9227-1CB745C0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785-84A4-4C33-9637-896492CE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B98-5473-4FA1-96F5-BD0AAB90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966-FFE9-450D-BE61-6BE31418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C52-1F0A-4542-A08E-1D22939A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93A-083B-4BAD-8276-F2FF8ED2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8D6-FCC5-4B1E-85F1-F8581AD9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463-46E3-4BCC-B244-AB0DA5E2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FC0-C03C-4569-A1C4-86BB2E07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A55-0545-4FA9-AC28-3BD93548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1E1-9FD8-48B9-8403-B2B589E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F82-7538-41D1-8A26-9838D7AF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95E7A-DA4E-406D-BDE3-C6BC83FD16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