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807246"/>
        <c:axId val="15287307"/>
      </c:barChart>
      <c:catAx>
        <c:axId val="808072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87307"/>
        <c:crosses val="autoZero"/>
        <c:auto val="1"/>
        <c:lblAlgn val="ctr"/>
        <c:lblOffset val="100"/>
        <c:noMultiLvlLbl val="0"/>
      </c:catAx>
      <c:valAx>
        <c:axId val="15287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072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8696-F85B-45AF-BECF-F1114629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D7F2-5EE5-44B3-829D-0E6943FC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669A-C958-4F11-B469-E5D9DD01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8CAE-0BD6-4F62-9ADE-54DB05C6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4897-9222-498D-B4E4-6109FD90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B6F3-C44A-4D42-B3DB-D3679982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4D24-B09F-48E7-BAE1-FF35C185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BB93-6E1E-40B3-A4D3-D9F84DED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EB42-2F07-4282-9CD4-D5B57D1F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DD89-E209-4C9D-9081-CE66DD70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11B8-3FDC-4178-B0A5-CEBADBE7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FC7A-F5CD-43DB-876B-0166AA1D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EAAE3-20EC-4CD8-BE9F-C8E9C97D10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