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64226"/>
        <c:axId val="61924420"/>
      </c:barChart>
      <c:catAx>
        <c:axId val="86064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24420"/>
        <c:crosses val="autoZero"/>
        <c:auto val="1"/>
        <c:lblAlgn val="ctr"/>
        <c:lblOffset val="100"/>
        <c:noMultiLvlLbl val="0"/>
      </c:catAx>
      <c:valAx>
        <c:axId val="61924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64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EC4-1CBA-4099-AF0F-F3613DD7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4C3-9D2E-40AE-8483-7A730FFA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FC8-7E25-400B-B53B-E35BF7A7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7A0-80B3-428B-9A24-9D1AED37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E01-D072-4698-940D-6AC60611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0E4-6703-4A8E-9EE7-E61D3AC9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6E7-7C70-4D4D-AAD0-54355219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40E-3AA6-4B73-A7D0-74F267BF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D20-4549-45AE-87E9-7FA03FBD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430-75EC-4CE3-9BDD-29B05A39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19C-E308-45D0-A027-25949E96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C20-AD99-4667-A918-D665756D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96F59-728C-4937-8558-2C53CB4706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