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57802"/>
        <c:axId val="31339330"/>
      </c:barChart>
      <c:catAx>
        <c:axId val="87757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39330"/>
        <c:crosses val="autoZero"/>
        <c:auto val="1"/>
        <c:lblAlgn val="ctr"/>
        <c:lblOffset val="100"/>
        <c:noMultiLvlLbl val="0"/>
      </c:catAx>
      <c:valAx>
        <c:axId val="31339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7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51D-78B3-4668-B979-36D1DACB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BE7-A987-4836-A4BB-428E9EF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68E-159F-4B4D-A1C2-AA7493B5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FD7-5F48-429A-92FD-86CDE8DE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713-6293-4650-A1E7-E1E1275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172-18E1-4DD3-B119-62BA8D08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126-5828-48EB-B5BA-A4FD86A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6F8-AD2A-4842-8578-3A43EB0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248-0FC9-472D-A530-81FC3D82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8E-C030-4A71-BD7F-64650BB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058-356A-4B21-9DF5-181BFFE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E50-23DC-4BED-A7F1-257551F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6520-F460-444C-9FEB-4ED0A9CE6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