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6305"/>
        <c:axId val="10900415"/>
      </c:barChart>
      <c:catAx>
        <c:axId val="711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0415"/>
        <c:crosses val="autoZero"/>
        <c:auto val="1"/>
        <c:lblAlgn val="ctr"/>
        <c:lblOffset val="100"/>
        <c:noMultiLvlLbl val="0"/>
      </c:catAx>
      <c:valAx>
        <c:axId val="1090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892-4968-4792-A6E9-98606C36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9B1-A8B5-4EC2-8B1C-0019DED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26F-1662-4228-9E29-9B9F396C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F82-EC21-4195-B94D-074EA659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42F-DCE7-499E-B289-DBD3738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75F-C063-48A0-AD20-15B40A1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D4C-9226-423A-932A-1F8A8B8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6BD-CA62-4A67-87C7-97389DC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419-D49D-403D-8E82-503A479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825-CF50-468B-A9B4-B16CF95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7FB-22E9-40AB-BA02-C800329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A22-A326-4957-A2F8-A0A4321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FEF05-E5F7-4AAC-863F-74CEE0C1DC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