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31561"/>
        <c:axId val="80126812"/>
      </c:barChart>
      <c:catAx>
        <c:axId val="56031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26812"/>
        <c:crosses val="autoZero"/>
        <c:auto val="1"/>
        <c:lblAlgn val="ctr"/>
        <c:lblOffset val="100"/>
        <c:noMultiLvlLbl val="0"/>
      </c:catAx>
      <c:valAx>
        <c:axId val="80126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31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480-D18E-4391-8F79-27C629D9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5C4-FB09-4A58-830E-3B35B8C3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2E0-501C-49FE-B335-1AA24022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B82-F53C-4136-97AA-265313A8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967-B2FA-43CC-BF58-935D68BB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727-F257-450A-9F5B-70B2B1AA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982-17D3-43CD-81A9-D3DD17AB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F8A-2440-41C5-91BB-7C9C5DE3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96C-58B7-4019-BEA3-5D35F639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D92-92AA-4C17-B59F-3FF0174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F8E-0BE5-4873-80CD-4B0B3D2C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E56-EF16-4537-86AB-B589490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C688E-BAF1-4CDB-B670-EF1685BBF4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