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66566"/>
        <c:axId val="91950317"/>
      </c:barChart>
      <c:catAx>
        <c:axId val="70466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50317"/>
        <c:crosses val="autoZero"/>
        <c:auto val="1"/>
        <c:lblAlgn val="ctr"/>
        <c:lblOffset val="100"/>
        <c:noMultiLvlLbl val="0"/>
      </c:catAx>
      <c:valAx>
        <c:axId val="91950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66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072-0D84-43F8-8CD2-2726D8D5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9C2-8F5E-4964-A1A2-F1637B01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A56-BEAD-440C-AE45-18F8E8AA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BBD-F7C0-4E0A-8506-3B001CE4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22A-89E3-44C7-999A-9A4A448E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A1E-FAAC-4DA6-A676-5E74D2A5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574-6188-48BE-9EBD-FEE8832D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17B-6985-4FB8-86D8-975B2617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A0C-820E-4707-982E-F180F367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56B-8583-4739-8748-51494884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EA6-F092-4927-BD28-F6F96FC5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5D2-CCD5-4396-A938-DEB20DC5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8DA6E-9409-4624-AE94-F6117057A8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