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91632"/>
        <c:axId val="98755817"/>
      </c:barChart>
      <c:catAx>
        <c:axId val="58191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5817"/>
        <c:crosses val="autoZero"/>
        <c:auto val="1"/>
        <c:lblAlgn val="ctr"/>
        <c:lblOffset val="100"/>
        <c:noMultiLvlLbl val="0"/>
      </c:catAx>
      <c:valAx>
        <c:axId val="98755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1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73D-E603-4D92-9EF6-7538554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9D4-3C63-4920-A03E-AF2BE895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5F2-CFC2-4B2D-BE89-D25EA344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69F-06B8-48AB-B13E-7A882E8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EF0-0032-4AE3-A206-5FB538A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894-3A13-40B6-A465-7FE465CC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5BD-0572-4E3C-86FA-9EFC1D0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FC9-2BC6-457E-8252-53D786FE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7C1-8CF6-43E7-8944-76600008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16D-D9D1-4C00-AE81-505A7D4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5E7-F705-44FF-AD92-902156D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C86-E034-40D1-8B37-2B86DA8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6525E-0270-43CC-9C2F-3699F7CC61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